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27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25.png" ContentType="image/png"/>
  <Override PartName="/ppt/media/image23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F5F-FDD5-4033-BF85-E2755393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228-08AC-44C1-8D07-B8943CE6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F27-EA34-4719-BE35-2B911469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A4A-B36E-40B0-867E-93EFF6B3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150A-3124-4A2A-9898-72736ADE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239-774A-42A4-905F-CF0D6E08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B06-2AE6-44AC-9BC8-7CAB4939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C23D-EAD8-43F4-A8AE-677A5E13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B5EA-6A8E-48E4-A450-8E1BC3ED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620-1237-4088-A735-5E6B4315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911E-89B7-4B17-9DA9-47D2D0EF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AAD-5BBD-4FB1-B83A-AE3DC1D4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BC10-72ED-4D19-8B36-44F75C9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63BA-684F-498A-85D3-3A0E4E2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991-CCE1-4547-BC60-5D9442E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7223-FD11-4D61-B921-70A2CFA6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8400-39B8-443A-AAE6-1292DEBC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237-E154-44F5-9DF4-B1D8585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723-77AC-4A90-9D6D-5F5CC661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116-95DC-41D4-BB5D-8537648B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5C0-64F9-487C-8A5B-62C3B423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09F-D548-4B05-954A-50D34940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898-0C76-4140-899C-405C564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C52-A719-4A21-BA97-BFDF14D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700-A197-4C55-B635-571D9EFA0F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FCF5-B0EA-4AD4-AD71-4FC0832DE3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kesybelia.ocps.k12.fl.us/images/Excited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5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5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uzyred.com/subjects.html" TargetMode="External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Subject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Predicates</a:t>
            </a:r>
            <a:endParaRPr b="1" lang="en-US" sz="5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roject LA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218268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oke his fing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asked for direc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oldiers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arried gu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arrived 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Simple Subject and Simple Predicate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ery subject is built around one noun or pronoun (or more).  When all other words are removed the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imple subjec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lef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boy5"/>
          <p:cNvPicPr/>
          <p:nvPr/>
        </p:nvPicPr>
        <p:blipFill>
          <a:blip r:embed="rId1"/>
          <a:stretch/>
        </p:blipFill>
        <p:spPr>
          <a:xfrm>
            <a:off x="6638760" y="5562720"/>
            <a:ext cx="25052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Simple Subject</a:t>
            </a:r>
            <a:endParaRPr b="1" lang="en-US" sz="6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212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A </a:t>
            </a:r>
            <a:r>
              <a:rPr b="1" lang="en-US" sz="4400" spc="-1" strike="noStrike" u="sng">
                <a:solidFill>
                  <a:srgbClr val="006600"/>
                </a:solidFill>
                <a:uFillTx/>
                <a:latin typeface="Arial"/>
              </a:rPr>
              <a:t>piece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of chocolate cand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ould taste grea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62120" y="40384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word in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oun ``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ie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'' with the other words of the subject -- ``a'' and ``of pepperoni pizza'' – tell about the noun. ``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ie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' is the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candyeating"/>
          <p:cNvPicPr/>
          <p:nvPr/>
        </p:nvPicPr>
        <p:blipFill>
          <a:blip r:embed="rId1"/>
          <a:stretch/>
        </p:blipFill>
        <p:spPr>
          <a:xfrm>
            <a:off x="7124760" y="0"/>
            <a:ext cx="201924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imple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imple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broth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Uncle Bo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oldi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babysi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Simple Predicate</a:t>
            </a:r>
            <a:endParaRPr b="1" lang="en-US" sz="6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always the verb or verbs that links up with the subjec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ntacts"/>
          <p:cNvPicPr/>
          <p:nvPr/>
        </p:nvPicPr>
        <p:blipFill>
          <a:blip r:embed="rId1"/>
          <a:stretch/>
        </p:blipFill>
        <p:spPr>
          <a:xfrm>
            <a:off x="5410080" y="4343400"/>
            <a:ext cx="2178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Simple Predicate</a:t>
            </a:r>
            <a:endParaRPr b="1" lang="en-US" sz="6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6212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iece of chocolate candy </a:t>
            </a:r>
            <a:r>
              <a:rPr b="1" lang="en-US" sz="4400" spc="-1" strike="noStrike" u="sng">
                <a:solidFill>
                  <a:srgbClr val="cc0066"/>
                </a:solidFill>
                <a:uFillTx/>
                <a:latin typeface="Arial"/>
              </a:rPr>
              <a:t>would taste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 grea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62120" y="4038480"/>
            <a:ext cx="80010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imple predicate is ``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would tas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'' -- in other word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erb of the sente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andyeating"/>
          <p:cNvPicPr/>
          <p:nvPr/>
        </p:nvPicPr>
        <p:blipFill>
          <a:blip r:embed="rId1"/>
          <a:stretch/>
        </p:blipFill>
        <p:spPr>
          <a:xfrm>
            <a:off x="6858000" y="4648320"/>
            <a:ext cx="2019240" cy="1933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05880" y="106272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imple 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5880" y="106272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imple 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ok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aske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arrie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arrive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Compound Subject</a:t>
            </a:r>
            <a:endParaRPr b="1" lang="en-US" sz="6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62120" y="24382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ntence may have a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ompound su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- a simple subject made up of more than one noun or prono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638680" y="53341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 Doub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7924680" y="27432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hiller"/>
              </a:rPr>
              <a:t>ACD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1"/>
          <p:cNvGrpSpPr/>
          <p:nvPr/>
        </p:nvGrpSpPr>
        <p:grpSpPr>
          <a:xfrm>
            <a:off x="4533840" y="2666880"/>
            <a:ext cx="4152960" cy="3962520"/>
            <a:chOff x="4533840" y="2666880"/>
            <a:chExt cx="4152960" cy="3962520"/>
          </a:xfrm>
        </p:grpSpPr>
        <p:sp>
          <p:nvSpPr>
            <p:cNvPr id="156" name="Rectangle 12"/>
            <p:cNvSpPr/>
            <p:nvPr/>
          </p:nvSpPr>
          <p:spPr>
            <a:xfrm>
              <a:off x="7772400" y="2666880"/>
              <a:ext cx="9144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5562720" y="5257800"/>
              <a:ext cx="990360" cy="13716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7" descr="pennants1"/>
            <p:cNvPicPr/>
            <p:nvPr/>
          </p:nvPicPr>
          <p:blipFill>
            <a:blip r:embed="rId1"/>
            <a:stretch/>
          </p:blipFill>
          <p:spPr>
            <a:xfrm>
              <a:off x="7162920" y="4724280"/>
              <a:ext cx="142848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guitar-electric"/>
            <p:cNvPicPr/>
            <p:nvPr/>
          </p:nvPicPr>
          <p:blipFill>
            <a:blip r:embed="rId2"/>
            <a:stretch/>
          </p:blipFill>
          <p:spPr>
            <a:xfrm>
              <a:off x="7772400" y="2895480"/>
              <a:ext cx="81432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9" descr="rock-female"/>
            <p:cNvPicPr/>
            <p:nvPr/>
          </p:nvPicPr>
          <p:blipFill>
            <a:blip r:embed="rId3"/>
            <a:stretch/>
          </p:blipFill>
          <p:spPr>
            <a:xfrm>
              <a:off x="5864400" y="5562720"/>
              <a:ext cx="53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8" descr="frame3"/>
            <p:cNvPicPr/>
            <p:nvPr/>
          </p:nvPicPr>
          <p:blipFill>
            <a:blip r:embed="rId4"/>
            <a:stretch/>
          </p:blipFill>
          <p:spPr>
            <a:xfrm>
              <a:off x="6934320" y="5867280"/>
              <a:ext cx="102852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4" descr="family2"/>
            <p:cNvPicPr/>
            <p:nvPr/>
          </p:nvPicPr>
          <p:blipFill>
            <a:blip r:embed="rId5">
              <a:lum contrast="6000"/>
            </a:blip>
            <a:stretch/>
          </p:blipFill>
          <p:spPr>
            <a:xfrm>
              <a:off x="7162920" y="6019920"/>
              <a:ext cx="60948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9" descr="frame"/>
            <p:cNvPicPr/>
            <p:nvPr/>
          </p:nvPicPr>
          <p:blipFill>
            <a:blip r:embed="rId6"/>
            <a:stretch/>
          </p:blipFill>
          <p:spPr>
            <a:xfrm>
              <a:off x="4533840" y="5410080"/>
              <a:ext cx="64764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0" descr="cutekid"/>
            <p:cNvPicPr/>
            <p:nvPr/>
          </p:nvPicPr>
          <p:blipFill>
            <a:blip r:embed="rId7"/>
            <a:stretch/>
          </p:blipFill>
          <p:spPr>
            <a:xfrm>
              <a:off x="4648320" y="5486400"/>
              <a:ext cx="36504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464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Every complete sentence contains two parts: a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and 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what (or whom) the sentence is about, while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lls something about the subjec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at"/>
          <p:cNvPicPr/>
          <p:nvPr/>
        </p:nvPicPr>
        <p:blipFill>
          <a:blip r:embed="rId1"/>
          <a:stretch/>
        </p:blipFill>
        <p:spPr>
          <a:xfrm>
            <a:off x="6400800" y="441972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2362320"/>
            <a:ext cx="39625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pennants, rock posters and family photographs covered the boy's bedroom wall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bedroom1"/>
          <p:cNvPicPr/>
          <p:nvPr/>
        </p:nvPicPr>
        <p:blipFill>
          <a:blip r:embed="rId1"/>
          <a:stretch/>
        </p:blipFill>
        <p:spPr>
          <a:xfrm>
            <a:off x="4419720" y="3879720"/>
            <a:ext cx="4400280" cy="297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8381880" y="4876920"/>
            <a:ext cx="370080" cy="3729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350120" y="4505400"/>
            <a:ext cx="398520" cy="4474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pennants1"/>
          <p:cNvPicPr/>
          <p:nvPr/>
        </p:nvPicPr>
        <p:blipFill>
          <a:blip r:embed="rId2"/>
          <a:stretch/>
        </p:blipFill>
        <p:spPr>
          <a:xfrm>
            <a:off x="7994520" y="4330800"/>
            <a:ext cx="578160" cy="35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guitar-electric"/>
          <p:cNvPicPr/>
          <p:nvPr/>
        </p:nvPicPr>
        <p:blipFill>
          <a:blip r:embed="rId3"/>
          <a:stretch/>
        </p:blipFill>
        <p:spPr>
          <a:xfrm>
            <a:off x="8458200" y="4952880"/>
            <a:ext cx="330120" cy="295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rock-female"/>
          <p:cNvPicPr/>
          <p:nvPr/>
        </p:nvPicPr>
        <p:blipFill>
          <a:blip r:embed="rId4"/>
          <a:stretch/>
        </p:blipFill>
        <p:spPr>
          <a:xfrm>
            <a:off x="7470720" y="4603680"/>
            <a:ext cx="217440" cy="27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rame3"/>
          <p:cNvPicPr/>
          <p:nvPr/>
        </p:nvPicPr>
        <p:blipFill>
          <a:blip r:embed="rId5"/>
          <a:stretch/>
        </p:blipFill>
        <p:spPr>
          <a:xfrm>
            <a:off x="7902720" y="4703760"/>
            <a:ext cx="415800" cy="2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family2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994520" y="4753080"/>
            <a:ext cx="246240" cy="122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frame"/>
          <p:cNvPicPr/>
          <p:nvPr/>
        </p:nvPicPr>
        <p:blipFill>
          <a:blip r:embed="rId7"/>
          <a:stretch/>
        </p:blipFill>
        <p:spPr>
          <a:xfrm>
            <a:off x="6934320" y="4554360"/>
            <a:ext cx="261720" cy="227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cutekid"/>
          <p:cNvPicPr/>
          <p:nvPr/>
        </p:nvPicPr>
        <p:blipFill>
          <a:blip r:embed="rId8"/>
          <a:stretch/>
        </p:blipFill>
        <p:spPr>
          <a:xfrm>
            <a:off x="6980400" y="4579920"/>
            <a:ext cx="1476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5800" y="2362320"/>
            <a:ext cx="40384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enn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rock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ost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family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hotograph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vered the boy's bedroom wall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edroom1"/>
          <p:cNvPicPr/>
          <p:nvPr/>
        </p:nvPicPr>
        <p:blipFill>
          <a:blip r:embed="rId1"/>
          <a:stretch/>
        </p:blipFill>
        <p:spPr>
          <a:xfrm>
            <a:off x="4419720" y="3879720"/>
            <a:ext cx="4400280" cy="2978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8381880" y="4876920"/>
            <a:ext cx="370080" cy="3729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7350120" y="4505400"/>
            <a:ext cx="398520" cy="4474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pennants1"/>
          <p:cNvPicPr/>
          <p:nvPr/>
        </p:nvPicPr>
        <p:blipFill>
          <a:blip r:embed="rId2"/>
          <a:stretch/>
        </p:blipFill>
        <p:spPr>
          <a:xfrm>
            <a:off x="7994520" y="4330800"/>
            <a:ext cx="578160" cy="353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guitar-electric"/>
          <p:cNvPicPr/>
          <p:nvPr/>
        </p:nvPicPr>
        <p:blipFill>
          <a:blip r:embed="rId3"/>
          <a:stretch/>
        </p:blipFill>
        <p:spPr>
          <a:xfrm>
            <a:off x="8458200" y="4952880"/>
            <a:ext cx="330120" cy="29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rock-female"/>
          <p:cNvPicPr/>
          <p:nvPr/>
        </p:nvPicPr>
        <p:blipFill>
          <a:blip r:embed="rId4"/>
          <a:stretch/>
        </p:blipFill>
        <p:spPr>
          <a:xfrm>
            <a:off x="7470720" y="4603680"/>
            <a:ext cx="217440" cy="27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frame3"/>
          <p:cNvPicPr/>
          <p:nvPr/>
        </p:nvPicPr>
        <p:blipFill>
          <a:blip r:embed="rId5"/>
          <a:stretch/>
        </p:blipFill>
        <p:spPr>
          <a:xfrm>
            <a:off x="7902720" y="4703760"/>
            <a:ext cx="415800" cy="23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family2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994520" y="4753080"/>
            <a:ext cx="246240" cy="122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frame"/>
          <p:cNvPicPr/>
          <p:nvPr/>
        </p:nvPicPr>
        <p:blipFill>
          <a:blip r:embed="rId7"/>
          <a:stretch/>
        </p:blipFill>
        <p:spPr>
          <a:xfrm>
            <a:off x="6934320" y="4554360"/>
            <a:ext cx="2617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cutekid"/>
          <p:cNvPicPr/>
          <p:nvPr/>
        </p:nvPicPr>
        <p:blipFill>
          <a:blip r:embed="rId8"/>
          <a:stretch/>
        </p:blipFill>
        <p:spPr>
          <a:xfrm>
            <a:off x="6980400" y="4579920"/>
            <a:ext cx="1476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2120" y="24382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uncle and she walked slowly through the art gallery and admired the beautiful pictures exhibited t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rtgallery"/>
          <p:cNvPicPr/>
          <p:nvPr/>
        </p:nvPicPr>
        <p:blipFill>
          <a:blip r:embed="rId1"/>
          <a:stretch/>
        </p:blipFill>
        <p:spPr>
          <a:xfrm>
            <a:off x="6705720" y="4767120"/>
            <a:ext cx="2243160" cy="224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62120" y="24382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unc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s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lked slowly through the art gallery and admired the beautiful pictures exhibited t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rtgallery"/>
          <p:cNvPicPr/>
          <p:nvPr/>
        </p:nvPicPr>
        <p:blipFill>
          <a:blip r:embed="rId1"/>
          <a:stretch/>
        </p:blipFill>
        <p:spPr>
          <a:xfrm>
            <a:off x="6705720" y="4767120"/>
            <a:ext cx="2243160" cy="22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480" y="986400"/>
            <a:ext cx="8542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ompound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ittle brother and my cousin broke thei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Uncle Bob and Aunt Betty asked for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oldiers and agents carried g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abysitter and her friend arrived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480" y="986400"/>
            <a:ext cx="8542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ompound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ittle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brot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cou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oke thei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cle Bo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unt Bet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ldi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g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ied g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abysit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r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frie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ed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58160" y="986400"/>
            <a:ext cx="8618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Compound Predicate</a:t>
            </a:r>
            <a:endParaRPr b="1" lang="en-US" sz="6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24382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ompound 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is more than one verb relating to the same subj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leaning"/>
          <p:cNvPicPr/>
          <p:nvPr/>
        </p:nvPicPr>
        <p:blipFill>
          <a:blip r:embed="rId1"/>
          <a:stretch/>
        </p:blipFill>
        <p:spPr>
          <a:xfrm>
            <a:off x="5562720" y="3505320"/>
            <a:ext cx="2732040" cy="296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predicate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24382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her mopped and scrubbed the kitchen flo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crub"/>
          <p:cNvPicPr/>
          <p:nvPr/>
        </p:nvPicPr>
        <p:blipFill>
          <a:blip r:embed="rId1"/>
          <a:stretch/>
        </p:blipFill>
        <p:spPr>
          <a:xfrm>
            <a:off x="3352680" y="4114800"/>
            <a:ext cx="2133720" cy="199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leaning"/>
          <p:cNvPicPr/>
          <p:nvPr/>
        </p:nvPicPr>
        <p:blipFill>
          <a:blip r:embed="rId2"/>
          <a:stretch/>
        </p:blipFill>
        <p:spPr>
          <a:xfrm>
            <a:off x="6400800" y="3276720"/>
            <a:ext cx="2451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predicate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24382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her 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mopp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scrubb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 kitchen flo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scrub"/>
          <p:cNvPicPr/>
          <p:nvPr/>
        </p:nvPicPr>
        <p:blipFill>
          <a:blip r:embed="rId1"/>
          <a:stretch/>
        </p:blipFill>
        <p:spPr>
          <a:xfrm>
            <a:off x="3645000" y="4724280"/>
            <a:ext cx="2133360" cy="1997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eaning"/>
          <p:cNvPicPr/>
          <p:nvPr/>
        </p:nvPicPr>
        <p:blipFill>
          <a:blip r:embed="rId2"/>
          <a:stretch/>
        </p:blipFill>
        <p:spPr>
          <a:xfrm>
            <a:off x="6692760" y="3886200"/>
            <a:ext cx="2451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ompound predicate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534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bruised and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looked and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oldiers carried and used gu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overslept and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un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Picture 4" descr="beach1"/>
          <p:cNvPicPr/>
          <p:nvPr/>
        </p:nvPicPr>
        <p:blipFill>
          <a:blip r:embed="rId1"/>
          <a:stretch/>
        </p:blipFill>
        <p:spPr>
          <a:xfrm>
            <a:off x="1371600" y="2362320"/>
            <a:ext cx="678168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ogrun"/>
          <p:cNvPicPr/>
          <p:nvPr/>
        </p:nvPicPr>
        <p:blipFill>
          <a:blip r:embed="rId2"/>
          <a:stretch/>
        </p:blipFill>
        <p:spPr>
          <a:xfrm>
            <a:off x="3276720" y="2133720"/>
            <a:ext cx="1547640" cy="447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ogging"/>
          <p:cNvPicPr/>
          <p:nvPr/>
        </p:nvPicPr>
        <p:blipFill>
          <a:blip r:embed="rId3"/>
          <a:stretch/>
        </p:blipFill>
        <p:spPr>
          <a:xfrm>
            <a:off x="5638680" y="36576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ompound predicate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120" y="2447640"/>
            <a:ext cx="8534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bruis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broke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 fi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look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ask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dire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ose soldiers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carri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us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overslep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arriv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91320" y="3805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Now that you know all about subjects and predicates, try the subject and predicate song and sing along!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15" name="Picture 4" descr="clickhere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4876920"/>
            <a:ext cx="2057400" cy="90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kids_line_2"/>
          <p:cNvPicPr/>
          <p:nvPr/>
        </p:nvPicPr>
        <p:blipFill>
          <a:blip r:embed="rId3"/>
          <a:stretch/>
        </p:blipFill>
        <p:spPr>
          <a:xfrm>
            <a:off x="2133720" y="914400"/>
            <a:ext cx="4724280" cy="110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un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ver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then make a question by placing ``who?'' or ``what?'' befor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oggin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ogrun"/>
          <p:cNvPicPr/>
          <p:nvPr/>
        </p:nvPicPr>
        <p:blipFill>
          <a:blip r:embed="rId2"/>
          <a:stretch/>
        </p:blipFill>
        <p:spPr>
          <a:xfrm>
            <a:off x="6629400" y="4724280"/>
            <a:ext cx="471600" cy="180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1066680" y="4419720"/>
            <a:ext cx="472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swer is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, Judy and her d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Let’s try one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spilled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33526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ver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is sent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spil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popcorn1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65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boygirlyeah"/>
          <p:cNvPicPr/>
          <p:nvPr/>
        </p:nvPicPr>
        <p:blipFill>
          <a:blip r:embed="rId2"/>
          <a:stretch/>
        </p:blipFill>
        <p:spPr>
          <a:xfrm>
            <a:off x="4724280" y="838080"/>
            <a:ext cx="2857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Now find the subject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pil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38080" y="33526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decide who or what spilled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pil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ygirlyeah"/>
          <p:cNvPicPr/>
          <p:nvPr/>
        </p:nvPicPr>
        <p:blipFill>
          <a:blip r:embed="rId1"/>
          <a:stretch/>
        </p:blipFill>
        <p:spPr>
          <a:xfrm>
            <a:off x="6286680" y="5743440"/>
            <a:ext cx="28573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My little broth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His Uncle Bo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hose soldi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Our babysi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 his fing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3:24:38Z</dcterms:created>
  <dc:creator>Jefferson County Schools</dc:creator>
  <dc:description/>
  <dc:language>en-US</dc:language>
  <cp:lastModifiedBy>dyera</cp:lastModifiedBy>
  <dcterms:modified xsi:type="dcterms:W3CDTF">2010-10-01T12:33:19Z</dcterms:modified>
  <cp:revision>9</cp:revision>
  <dc:subject/>
  <dc:title>Subjects &amp; Predicates</dc:title>
</cp:coreProperties>
</file>